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F161-B973-4F5D-BFCF-117F7722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BE-ABE4-4998-A6D0-0AF86C4B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CEE-87BC-426E-9C63-951D32A4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E3C1-AEE2-44E3-ADDA-86A14B0F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5B6-54BC-4B02-81CB-2E005E91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65F-CAEB-4895-8391-46627E3A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B03-F430-4D95-8FA2-51D38EC8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F2F-A40A-4E04-B5E2-E7F931A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140E-9F1D-44F1-9323-2C13FCF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A272-3AF2-4AA0-AD3C-06DE3C24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55A-3178-4031-967F-3394A6F7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D5C-8E37-4F82-B186-06142093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603B-6274-49B5-833D-4FDDA8380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ry po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sorcerers 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chamber of secr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prisoner of Azka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goblet of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order of the phoe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half blood pr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and the deathly h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23:36:59Z</dcterms:created>
  <dc:creator>Admin</dc:creator>
  <dc:description/>
  <dc:language>en-US</dc:language>
  <cp:lastModifiedBy>Admin</cp:lastModifiedBy>
  <dcterms:modified xsi:type="dcterms:W3CDTF">2009-05-27T00:09:31Z</dcterms:modified>
  <cp:revision>2</cp:revision>
  <dc:subject/>
  <dc:title>greece</dc:title>
</cp:coreProperties>
</file>